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329-B0EC-4B14-AF43-35087AE67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056-1D56-4AE1-BCC1-FA96B762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2E4-FC8C-4CD8-A893-3E3B7644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698-935A-4294-A5AE-9D7251EA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6C6-CBF4-4B93-86B4-7A7E95C7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5BD-B163-41C5-891E-C344391A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CCA-4710-4E4F-BF3B-EC7A8832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51F-F4A0-4112-8DA7-A1FB883B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41E-66CD-4517-8A31-7BC0EE3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769-35EB-489F-8445-21979FD0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325-B87F-4AFB-B8A4-E0FDFA17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549-D328-441A-9D4E-06BFB398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3A0-D34E-4D04-9AFD-24A91FF7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BC0E-BAC4-4DC5-AB10-C7F8D38A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Fai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acob Hab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gender is better at looking at Sierra Mist and Sprite and telling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females will be able to tell the difference better than 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rra M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I will pour Sprite in one cup and Sierra Mist in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I will have them look at the cups for 20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they will tell me which one they think is Sprite and Sierra 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I tally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38080" y="2819520"/>
          <a:ext cx="7315200" cy="3105000"/>
        </p:xfrm>
        <a:graphic>
          <a:graphicData uri="http://schemas.openxmlformats.org/drawingml/2006/table">
            <a:tbl>
              <a:tblPr/>
              <a:tblGrid>
                <a:gridCol w="1938600"/>
                <a:gridCol w="1490400"/>
                <a:gridCol w="405000"/>
                <a:gridCol w="947520"/>
                <a:gridCol w="949320"/>
                <a:gridCol w="15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d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incorrect. Males were able to tell the difference better than fe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25:47Z</dcterms:created>
  <dc:creator>USD376</dc:creator>
  <dc:description/>
  <dc:language>en-US</dc:language>
  <cp:lastModifiedBy>USD376</cp:lastModifiedBy>
  <dcterms:modified xsi:type="dcterms:W3CDTF">2010-05-06T14:16:04Z</dcterms:modified>
  <cp:revision>7</cp:revision>
  <dc:subject/>
  <dc:title>Science fair project</dc:title>
</cp:coreProperties>
</file>